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C41-F512-4949-8402-58F4F484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A9E-0CCC-4CE4-A6C3-007950D0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16E-1363-405B-9C1E-E550EB24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C62-0707-4F20-B743-D1091D5C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335-7145-4B34-9EC2-13B12A4D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22C-2C51-4827-82D9-E8D65F38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FF1-CBE5-4CFA-A3EE-CE7806CA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846-C5A8-41D6-9125-B428C715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225-CCCE-4798-88DD-749B7C1D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01A-728C-40DD-918A-0164E7AF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045-DAE5-4895-B828-AA76D17F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53D-AF47-46AC-A9E3-28DF2701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CB67-3C57-49E2-A5C1-E96323153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_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lase 702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a fecha es el 5 de enero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8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s fú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a sentence using each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4: Capitulo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5405400" y="1295280"/>
            <a:ext cx="251928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2709720" cy="2819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6172200" y="4952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jug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85800" y="6095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jug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4800240" y="2895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7467480" y="21337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7162920" y="32000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H="1">
            <a:off x="5866920" y="3809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7772400" y="3886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5028840" y="1447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 flipV="1">
            <a:off x="4419720" y="2209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3429000" y="1219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391520" y="1295280"/>
            <a:ext cx="1752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izquie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7467480" y="28195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7924680" y="4191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4648320" y="41148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rod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35812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derec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3124080" y="1905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70102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281952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3352680" y="5334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El b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La pelota de fut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3" descr=""/>
          <p:cNvPicPr/>
          <p:nvPr/>
        </p:nvPicPr>
        <p:blipFill>
          <a:blip r:embed="rId1"/>
          <a:stretch/>
        </p:blipFill>
        <p:spPr>
          <a:xfrm>
            <a:off x="420840" y="457200"/>
            <a:ext cx="3720960" cy="2941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4"/>
          <p:cNvSpPr/>
          <p:nvPr/>
        </p:nvSpPr>
        <p:spPr>
          <a:xfrm>
            <a:off x="533520" y="38098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la aficion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528480" y="339876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 La espectador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"/>
          <p:cNvPicPr/>
          <p:nvPr/>
        </p:nvPicPr>
        <p:blipFill>
          <a:blip r:embed="rId2"/>
          <a:stretch/>
        </p:blipFill>
        <p:spPr>
          <a:xfrm>
            <a:off x="4925880" y="152280"/>
            <a:ext cx="3959280" cy="296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7"/>
          <p:cNvSpPr/>
          <p:nvPr/>
        </p:nvSpPr>
        <p:spPr>
          <a:xfrm>
            <a:off x="5410080" y="311796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campo de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canch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http://thumbs.dreamstime.com/z/soccer-stadium-isometric-10567918.jpg"/>
          <p:cNvPicPr/>
          <p:nvPr/>
        </p:nvPicPr>
        <p:blipFill>
          <a:blip r:embed="rId3"/>
          <a:srcRect l="0" t="0" r="2883" b="13635"/>
          <a:stretch/>
        </p:blipFill>
        <p:spPr>
          <a:xfrm>
            <a:off x="528480" y="4444920"/>
            <a:ext cx="4070520" cy="2374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4"/>
          <p:cNvSpPr/>
          <p:nvPr/>
        </p:nvSpPr>
        <p:spPr>
          <a:xfrm>
            <a:off x="4572000" y="53341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981080" y="2844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2"/>
          <p:cNvSpPr/>
          <p:nvPr/>
        </p:nvSpPr>
        <p:spPr>
          <a:xfrm>
            <a:off x="7467480" y="4191120"/>
            <a:ext cx="76212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5"/>
          <p:cNvSpPr/>
          <p:nvPr/>
        </p:nvSpPr>
        <p:spPr>
          <a:xfrm>
            <a:off x="7162920" y="5181480"/>
            <a:ext cx="76176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6"/>
          <p:cNvCxnSpPr/>
          <p:nvPr/>
        </p:nvCxnSpPr>
        <p:spPr>
          <a:xfrm flipH="1">
            <a:off x="7619400" y="4114440"/>
            <a:ext cx="533880" cy="16772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8" name="TextBox 12"/>
          <p:cNvSpPr/>
          <p:nvPr/>
        </p:nvSpPr>
        <p:spPr>
          <a:xfrm>
            <a:off x="6400800" y="55260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 able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7924680" y="4800600"/>
            <a:ext cx="685800" cy="4572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5"/>
          <p:cNvSpPr/>
          <p:nvPr/>
        </p:nvSpPr>
        <p:spPr>
          <a:xfrm>
            <a:off x="6172200" y="419112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6"/>
          <p:cNvCxnSpPr>
            <a:stCxn id="80" idx="2"/>
          </p:cNvCxnSpPr>
          <p:nvPr/>
        </p:nvCxnSpPr>
        <p:spPr>
          <a:xfrm flipH="1">
            <a:off x="5790960" y="4419360"/>
            <a:ext cx="381600" cy="114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19"/>
          <p:cNvCxnSpPr>
            <a:stCxn id="79" idx="5"/>
          </p:cNvCxnSpPr>
          <p:nvPr/>
        </p:nvCxnSpPr>
        <p:spPr>
          <a:xfrm>
            <a:off x="8510400" y="5191200"/>
            <a:ext cx="176760" cy="335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3" name="TextBox 22"/>
          <p:cNvSpPr/>
          <p:nvPr/>
        </p:nvSpPr>
        <p:spPr>
          <a:xfrm>
            <a:off x="7772400" y="541008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o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o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4495680" y="4267080"/>
            <a:ext cx="1333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hr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ttp://www.football-bible.com/images/image/referee.png"/>
          <p:cNvPicPr/>
          <p:nvPr/>
        </p:nvPicPr>
        <p:blipFill>
          <a:blip r:embed="rId2"/>
          <a:stretch/>
        </p:blipFill>
        <p:spPr>
          <a:xfrm>
            <a:off x="3886200" y="552600"/>
            <a:ext cx="1587600" cy="1428480"/>
          </a:xfrm>
          <a:prstGeom prst="rect">
            <a:avLst/>
          </a:prstGeom>
          <a:ln w="0">
            <a:noFill/>
          </a:ln>
        </p:spPr>
      </p:pic>
      <p:cxnSp>
        <p:nvCxnSpPr>
          <p:cNvPr id="86" name="Straight Arrow Connector 25"/>
          <p:cNvCxnSpPr/>
          <p:nvPr/>
        </p:nvCxnSpPr>
        <p:spPr>
          <a:xfrm flipV="1">
            <a:off x="5162040" y="1066320"/>
            <a:ext cx="146772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27"/>
          <p:cNvSpPr/>
          <p:nvPr/>
        </p:nvSpPr>
        <p:spPr>
          <a:xfrm>
            <a:off x="6705720" y="9144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/ La arbi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1752480" y="3276720"/>
            <a:ext cx="13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0"/>
          <p:cNvSpPr/>
          <p:nvPr/>
        </p:nvSpPr>
        <p:spPr>
          <a:xfrm>
            <a:off x="7404120" y="3273480"/>
            <a:ext cx="863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76320" y="2209680"/>
            <a:ext cx="13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1371600" y="535788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o throw (kick) the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8"/>
          <p:cNvCxnSpPr/>
          <p:nvPr/>
        </p:nvCxnSpPr>
        <p:spPr>
          <a:xfrm flipH="1">
            <a:off x="8152920" y="3276720"/>
            <a:ext cx="115200" cy="33552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93" name="TextBox 29"/>
          <p:cNvSpPr/>
          <p:nvPr/>
        </p:nvSpPr>
        <p:spPr>
          <a:xfrm>
            <a:off x="6858000" y="32767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Guar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gu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7315200" y="22860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cc"/>
                </a:solidFill>
                <a:latin typeface="Arial"/>
              </a:rPr>
              <a:t>Jugar a(l)…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 play.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a 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31"/>
          <p:cNvSpPr/>
          <p:nvPr/>
        </p:nvSpPr>
        <p:spPr>
          <a:xfrm>
            <a:off x="7899480" y="2286000"/>
            <a:ext cx="86364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32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-1828800" y="7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2"/>
          <p:cNvSpPr/>
          <p:nvPr/>
        </p:nvSpPr>
        <p:spPr>
          <a:xfrm>
            <a:off x="7848720" y="4724280"/>
            <a:ext cx="9144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 flipH="1">
            <a:off x="8076960" y="4724280"/>
            <a:ext cx="38160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00" name="TextBox 8"/>
          <p:cNvSpPr/>
          <p:nvPr/>
        </p:nvSpPr>
        <p:spPr>
          <a:xfrm>
            <a:off x="4876920" y="281952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a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w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562040" y="5848200"/>
            <a:ext cx="2629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core bo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80880" y="5181480"/>
            <a:ext cx="3810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l tablero ind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1676520" y="54864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l mar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>
            <a:off x="6553080" y="3124080"/>
            <a:ext cx="685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13"/>
          <p:cNvCxnSpPr/>
          <p:nvPr/>
        </p:nvCxnSpPr>
        <p:spPr>
          <a:xfrm flipH="1">
            <a:off x="6171840" y="3123720"/>
            <a:ext cx="691200" cy="2293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6" name="TextBox 15"/>
          <p:cNvSpPr/>
          <p:nvPr/>
        </p:nvSpPr>
        <p:spPr>
          <a:xfrm>
            <a:off x="7048440" y="512748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e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l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6"/>
          <p:cNvSpPr/>
          <p:nvPr/>
        </p:nvSpPr>
        <p:spPr>
          <a:xfrm>
            <a:off x="6473880" y="2362320"/>
            <a:ext cx="765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7"/>
          <p:cNvCxnSpPr/>
          <p:nvPr/>
        </p:nvCxnSpPr>
        <p:spPr>
          <a:xfrm flipV="1">
            <a:off x="6862320" y="1904760"/>
            <a:ext cx="30564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TextBox 19"/>
          <p:cNvSpPr/>
          <p:nvPr/>
        </p:nvSpPr>
        <p:spPr>
          <a:xfrm>
            <a:off x="6629400" y="15238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7543800" y="2819520"/>
            <a:ext cx="990720" cy="41904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21"/>
          <p:cNvCxnSpPr/>
          <p:nvPr/>
        </p:nvCxnSpPr>
        <p:spPr>
          <a:xfrm>
            <a:off x="8534160" y="3084480"/>
            <a:ext cx="229320" cy="381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112" name="TextBox 23"/>
          <p:cNvSpPr/>
          <p:nvPr/>
        </p:nvSpPr>
        <p:spPr>
          <a:xfrm>
            <a:off x="71596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atch/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-1905120" y="34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Straight Connector 2"/>
          <p:cNvSpPr/>
          <p:nvPr/>
        </p:nvSpPr>
        <p:spPr>
          <a:xfrm>
            <a:off x="6095880" y="4038480"/>
            <a:ext cx="10670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4"/>
          <p:cNvCxnSpPr/>
          <p:nvPr/>
        </p:nvCxnSpPr>
        <p:spPr>
          <a:xfrm flipV="1">
            <a:off x="7086240" y="3504600"/>
            <a:ext cx="1080" cy="5338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16" name="Straight Connector 6"/>
          <p:cNvSpPr/>
          <p:nvPr/>
        </p:nvSpPr>
        <p:spPr>
          <a:xfrm>
            <a:off x="5029200" y="4724280"/>
            <a:ext cx="9907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8"/>
          <p:cNvCxnSpPr/>
          <p:nvPr/>
        </p:nvCxnSpPr>
        <p:spPr>
          <a:xfrm>
            <a:off x="5029200" y="4724280"/>
            <a:ext cx="381600" cy="4579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8" name="TextBox 10"/>
          <p:cNvSpPr/>
          <p:nvPr/>
        </p:nvSpPr>
        <p:spPr>
          <a:xfrm>
            <a:off x="6896160" y="32004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mpe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5181480" y="49165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9"/>
          <p:cNvSpPr/>
          <p:nvPr/>
        </p:nvSpPr>
        <p:spPr>
          <a:xfrm>
            <a:off x="6095880" y="3048120"/>
            <a:ext cx="10670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2"/>
          <p:cNvCxnSpPr/>
          <p:nvPr/>
        </p:nvCxnSpPr>
        <p:spPr>
          <a:xfrm flipV="1">
            <a:off x="7162560" y="2514240"/>
            <a:ext cx="1080" cy="53424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122" name="TextBox 13"/>
          <p:cNvSpPr/>
          <p:nvPr/>
        </p:nvSpPr>
        <p:spPr>
          <a:xfrm>
            <a:off x="5997600" y="214164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H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5486400" y="1371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er tiempo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gundo tiempo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876920" y="5486400"/>
            <a:ext cx="441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Arial"/>
              </a:rPr>
              <a:t>Empat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a ti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(sc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876920" y="586728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Contra</a:t>
            </a:r>
            <a:r>
              <a:rPr b="1" lang="es-ES_tradnl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aga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685800" y="621180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The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-1676520" y="648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3"/>
          <p:cNvSpPr/>
          <p:nvPr/>
        </p:nvSpPr>
        <p:spPr>
          <a:xfrm>
            <a:off x="1295280" y="1447920"/>
            <a:ext cx="35053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To score a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2"/>
          <p:cNvSpPr/>
          <p:nvPr/>
        </p:nvSpPr>
        <p:spPr>
          <a:xfrm>
            <a:off x="5257800" y="26668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4"/>
          <p:cNvCxnSpPr/>
          <p:nvPr/>
        </p:nvCxnSpPr>
        <p:spPr>
          <a:xfrm>
            <a:off x="6019920" y="266652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1" name="TextBox 7"/>
          <p:cNvSpPr/>
          <p:nvPr/>
        </p:nvSpPr>
        <p:spPr>
          <a:xfrm>
            <a:off x="6400800" y="268452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loque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"/>
          <p:cNvSpPr/>
          <p:nvPr/>
        </p:nvSpPr>
        <p:spPr>
          <a:xfrm>
            <a:off x="6362640" y="3429000"/>
            <a:ext cx="57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10"/>
          <p:cNvCxnSpPr/>
          <p:nvPr/>
        </p:nvCxnSpPr>
        <p:spPr>
          <a:xfrm>
            <a:off x="7391520" y="457164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TextBox 11"/>
          <p:cNvSpPr/>
          <p:nvPr/>
        </p:nvSpPr>
        <p:spPr>
          <a:xfrm>
            <a:off x="6858000" y="351648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tr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>
            <a:off x="6705720" y="45720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5295960" y="49528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7086600" y="4800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r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score a go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7"/>
          <p:cNvSpPr/>
          <p:nvPr/>
        </p:nvSpPr>
        <p:spPr>
          <a:xfrm>
            <a:off x="7315200" y="57150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8"/>
          <p:cNvCxnSpPr/>
          <p:nvPr/>
        </p:nvCxnSpPr>
        <p:spPr>
          <a:xfrm flipH="1">
            <a:off x="7314840" y="5714640"/>
            <a:ext cx="45792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0" name="TextBox 20"/>
          <p:cNvSpPr/>
          <p:nvPr/>
        </p:nvSpPr>
        <p:spPr>
          <a:xfrm>
            <a:off x="4991040" y="5867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plaud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appla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1"/>
          <p:cNvCxnSpPr/>
          <p:nvPr/>
        </p:nvCxnSpPr>
        <p:spPr>
          <a:xfrm>
            <a:off x="6477120" y="3428640"/>
            <a:ext cx="381600" cy="3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-2124000" y="-304920"/>
            <a:ext cx="13611240" cy="7653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1"/>
          <p:cNvSpPr/>
          <p:nvPr/>
        </p:nvSpPr>
        <p:spPr>
          <a:xfrm>
            <a:off x="3767040" y="685800"/>
            <a:ext cx="255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l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209680" y="1459080"/>
            <a:ext cx="2133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193840" y="26478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ers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4784760" y="35622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219320" y="49338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s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572000" y="563868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-2057400" y="-76320"/>
            <a:ext cx="13282560" cy="7467840"/>
          </a:xfrm>
          <a:prstGeom prst="rect">
            <a:avLst/>
          </a:prstGeom>
          <a:ln w="0">
            <a:noFill/>
          </a:ln>
        </p:spPr>
      </p:pic>
      <p:sp>
        <p:nvSpPr>
          <p:cNvPr id="150" name="Oval 5"/>
          <p:cNvSpPr/>
          <p:nvPr/>
        </p:nvSpPr>
        <p:spPr>
          <a:xfrm>
            <a:off x="8229600" y="3124080"/>
            <a:ext cx="6858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8153280" y="3581280"/>
            <a:ext cx="1067040" cy="381240"/>
          </a:xfrm>
          <a:prstGeom prst="ellips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4"/>
          <p:cNvCxnSpPr>
            <a:stCxn id="150" idx="0"/>
          </p:cNvCxnSpPr>
          <p:nvPr/>
        </p:nvCxnSpPr>
        <p:spPr>
          <a:xfrm flipH="1" flipV="1">
            <a:off x="8305560" y="2666520"/>
            <a:ext cx="2671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3" name="Straight Arrow Connector 8"/>
          <p:cNvCxnSpPr/>
          <p:nvPr/>
        </p:nvCxnSpPr>
        <p:spPr>
          <a:xfrm flipH="1">
            <a:off x="8571960" y="3962520"/>
            <a:ext cx="11484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54" name="TextBox 11"/>
          <p:cNvSpPr/>
          <p:nvPr/>
        </p:nvSpPr>
        <p:spPr>
          <a:xfrm>
            <a:off x="4583160" y="533520"/>
            <a:ext cx="410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Algunos color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228600" y="1523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2133720" y="21337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3962520" y="14479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4724280" y="259092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</a:rPr>
              <a:t>g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5029200" y="41148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9"/>
          <p:cNvSpPr/>
          <p:nvPr/>
        </p:nvSpPr>
        <p:spPr>
          <a:xfrm>
            <a:off x="3711600" y="4419720"/>
            <a:ext cx="990720" cy="368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2303640" y="403848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1981080" y="4952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914400" y="48006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3"/>
          <p:cNvSpPr/>
          <p:nvPr/>
        </p:nvSpPr>
        <p:spPr>
          <a:xfrm>
            <a:off x="60480" y="352116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76320" y="602784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uniforms, colors are adjectives.  Therefore, they must agree in gender and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6"/>
          <p:cNvSpPr/>
          <p:nvPr/>
        </p:nvSpPr>
        <p:spPr>
          <a:xfrm>
            <a:off x="5743440" y="1263600"/>
            <a:ext cx="134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6765840" y="12762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light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8"/>
          <p:cNvSpPr/>
          <p:nvPr/>
        </p:nvSpPr>
        <p:spPr>
          <a:xfrm>
            <a:off x="77724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9"/>
          <p:cNvSpPr/>
          <p:nvPr/>
        </p:nvSpPr>
        <p:spPr>
          <a:xfrm>
            <a:off x="82296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dcterms:modified xsi:type="dcterms:W3CDTF">2015-01-05T17:47:40Z</dcterms:modified>
  <cp:revision>63</cp:revision>
  <dc:subject/>
  <dc:title>Me llamo _________        Clase 7 IM La fecha es el 4 de noviembre del 2010</dc:title>
</cp:coreProperties>
</file>